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0CE9C-3B2E-4B9C-903E-08BC180EEB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BB80A-A669-4646-9F4A-EBE11289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016A2-4A42-43D2-AAF2-0E81A3C9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18CB1-6F0D-4817-83CA-C8A86339CC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6089D-1B84-45B1-A2FA-DB7F13AA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6730A-8E1D-4903-8811-B7E7AAA9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D118C-9A6C-493C-BB09-370A5E33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9C1DC-288E-4F9B-8BBC-3AE86B3CB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1ED27-98A3-405B-95F1-6CF6DF4A7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F7B4E-08D7-417D-890B-8B57BE3A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3AF97-B133-4909-B25D-9C21258F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CFEFE-94D8-4501-AF29-881BE10E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D786-6631-48E4-B086-D3DA0E8A99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2276640"/>
            <a:ext cx="8135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肺段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中央型小细胞未分化肺癌，给予紫杉醇与顺铂联合术前化疗。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应如何进行呼吸道护理？②全肺切除术后胸腔引流管有哪些护理要点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肺部感染、急性肺水肿、肺不张、心律失常、支气管胸膜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，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采取合适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后胸腔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发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患者手术前后呼吸道管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不同术式术后体位摆放方法和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肺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是一种常见的恶性肿瘤，其发病率和死亡率均有逐年上升的趋势。目前认为长期大量吸烟是肺癌重要致病因素，另外还与职业致癌因素、人体免疫状态、代谢状态、遗传等因素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因生长部位和病理类型不同，临床表现和进展速度有所区别。一般早期可出现刺激性干咳、血痰、胸闷、气促、发热、胸痛等症状，晚期压迫临近器官或发生转移时可出现相应部位的症状与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结合放射治疗、化学治疗、免疫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进行呼吸训练，改善肺泡通气和换气功能，术后根据手术术式给予合适体位，进行呼吸功能锻炼，预防肺水肿和肺部感染并发症的出现。全肺切除术患者注意避免过度侧卧，胸腔引流管钳闭，酌情放液，控制补液的速度和量。为早期发现、早期治疗，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吸烟男性患者尤其应做好普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起源于支气管黏膜上皮，也称支气管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咳嗽少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多月，半个月来伴声音嘶哑。双侧颈后可触及多个可活动淋巴结。患病后无发热。吸烟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7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 8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P 135/85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：左肺门处块状阴影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肺癌，特别是周围型肺癌往往无任何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纵隔，压迫食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处转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、脑、肝脏、骨骼和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上淋巴结是肺癌转移的常见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20:56Z</dcterms:modified>
  <cp:revision>90</cp:revision>
  <dc:subject/>
  <dc:title>内科护理学</dc:title>
</cp:coreProperties>
</file>